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94F0-67D7-4D75-91CB-832F1903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FD43-6F7E-48B4-B157-C78C5E336A3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5CA-7DDA-41E7-874B-24268FB4A06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0DE9-96AD-4310-A035-3571E72DD9A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C802-F7B8-4E05-8082-CDEC5DAB728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C66-72E2-468A-B780-5BFC7703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67B-7433-4716-9C56-ED764FB1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BCD-76E1-4F30-BF3D-9BC48404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F4B-AD39-48CB-A85F-537C4372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F918-CFF4-4FBF-BFE2-07F6AA04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25A8-9AAF-42F3-9A52-823C80AE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D746-8F34-40BF-8FE4-7AB7C149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2198-97B1-4F66-AC47-B47DDE5E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B163-1A1A-4CE4-88A7-10EFFE85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C7FE-63AA-4927-935F-8D5D8954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5713-2B4F-418B-8932-CC0418C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AD7-ABB2-49AF-80A2-3CD72479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E07E-59C1-4ECA-AA10-32071ED3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E6A7-E919-403B-BAA4-F52129D8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EDD3-620E-4D06-80CC-A1B1904A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955-20A7-47B4-BEA0-F71D38BA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50D-1081-4D9B-9696-02292301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91D-422B-4623-B680-31AE0CBC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CC2-E287-4E75-9ABD-9015CC8F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558-0111-4562-A4DB-E7A581E3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F2D-2CF1-4A67-96BA-5E7D9531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CE6-940D-473F-B1BF-7D315EF5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60A-7C1A-4DA9-B8F4-6B70021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069-3EEF-494C-8F2A-A203DAE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C780-443F-48D2-BACA-4F807EECB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BD69-B84D-4ACD-A929-825F76E9356E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0000"/>
                </a:solidFill>
                <a:latin typeface="Arial"/>
              </a:rPr>
              <a:t>Aim:  What were the major events of WWII?</a:t>
            </a:r>
            <a:br>
              <a:rPr sz="3400"/>
            </a:br>
            <a:r>
              <a:rPr b="0" lang="en-US" sz="3400" spc="-1" strike="noStrike">
                <a:solidFill>
                  <a:srgbClr val="320000"/>
                </a:solidFill>
                <a:latin typeface="Arial"/>
              </a:rPr>
              <a:t>L38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009920" y="1676520"/>
            <a:ext cx="213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Now:  What is the meaning of this political carto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3" name="Picture 10" descr="appeasment"/>
          <p:cNvPicPr/>
          <p:nvPr/>
        </p:nvPicPr>
        <p:blipFill>
          <a:blip r:embed="rId1"/>
          <a:stretch/>
        </p:blipFill>
        <p:spPr>
          <a:xfrm>
            <a:off x="0" y="1600200"/>
            <a:ext cx="7143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appeasment"/>
          <p:cNvPicPr/>
          <p:nvPr/>
        </p:nvPicPr>
        <p:blipFill>
          <a:blip r:embed="rId2"/>
          <a:stretch/>
        </p:blipFill>
        <p:spPr>
          <a:xfrm>
            <a:off x="0" y="228600"/>
            <a:ext cx="8839080" cy="598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germany"/>
          <p:cNvPicPr/>
          <p:nvPr/>
        </p:nvPicPr>
        <p:blipFill>
          <a:blip r:embed="rId3"/>
          <a:stretch/>
        </p:blipFill>
        <p:spPr>
          <a:xfrm>
            <a:off x="4648320" y="457200"/>
            <a:ext cx="685800" cy="41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taly"/>
          <p:cNvPicPr/>
          <p:nvPr/>
        </p:nvPicPr>
        <p:blipFill>
          <a:blip r:embed="rId4"/>
          <a:stretch/>
        </p:blipFill>
        <p:spPr>
          <a:xfrm>
            <a:off x="5638680" y="838080"/>
            <a:ext cx="609840" cy="416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union jack"/>
          <p:cNvPicPr/>
          <p:nvPr/>
        </p:nvPicPr>
        <p:blipFill>
          <a:blip r:embed="rId5"/>
          <a:stretch/>
        </p:blipFill>
        <p:spPr>
          <a:xfrm>
            <a:off x="304920" y="2819520"/>
            <a:ext cx="68580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are the events in early WWII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rmany invaded Poland (Sept 3</a:t>
            </a:r>
            <a:r>
              <a:rPr b="0" lang="en-US" sz="3200" spc="-1" strike="noStrike" baseline="30000">
                <a:solidFill>
                  <a:srgbClr val="33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, 1939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llies declare war on Germany!!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rmany then invades France and Belgium (poor guys!! Always getting picked on!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viet Non- Aggression Pact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tler made a deal with Stalin where he agreed not to attack the USSR and vice versa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 return Stalin would get part of Poland and a few other Slavic countrie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tler will later go back on this agreement and attack the USSR! (Bad idea!!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ides of the Wa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XIS pow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tal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Japan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LLIED power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reat Britai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a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USA late to joi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USSR late to joi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6" name="Picture 4" descr="wwii_combat_europe"/>
          <p:cNvPicPr/>
          <p:nvPr/>
        </p:nvPicPr>
        <p:blipFill>
          <a:blip r:embed="rId3"/>
          <a:stretch/>
        </p:blipFill>
        <p:spPr>
          <a:xfrm>
            <a:off x="4038480" y="19051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meline Evidence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sing the section “Hitler’s Lighting War” create a timeline of WWII events from 1939 to 1941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eets:  Contains 15 events and 1 sentence explanation of eac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ceeds:  Give a detailed explanation of 2 events of your choice in 1 paragraph each.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2:59:49Z</dcterms:created>
  <dc:creator>NYCDOE</dc:creator>
  <dc:description/>
  <dc:language>en-US</dc:language>
  <cp:lastModifiedBy>NYCDOE</cp:lastModifiedBy>
  <dcterms:modified xsi:type="dcterms:W3CDTF">2012-02-17T14:00:14Z</dcterms:modified>
  <cp:revision>17</cp:revision>
  <dc:subject/>
  <dc:title>Aim:  What were the major events of WWII? L73</dc:title>
</cp:coreProperties>
</file>